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wmf" ContentType="image/x-wm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53B2-C1AD-4F4E-AFB6-8BB560A11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CCCB-C078-4946-96E1-9101A62DC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0D34-B9CB-4062-9995-C65043774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9113-320E-4DD9-B11E-8CC38EBFC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9ED6B-7E3E-4719-B1F0-7F92F173E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293D6-C457-49F5-89F7-BF36A2283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EA06A-BB16-4E06-B184-88448BC68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6CD80-FCA1-4AA2-B36E-C2CBC2CAC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B1CB4-6165-4331-89CA-1894E40DF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8BE50-D1BC-41AD-9A59-ABB7BEB66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133CC-3E6C-4D02-A478-D2A5E216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AB50-09B6-4BBD-9E7F-DA239C1A5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8312A-5CFC-4975-AA9B-5CE51FCFB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246D2-D58B-43D8-B5D1-19ECEF72C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E73A4-C015-4A4F-8879-3CF8A2EBC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FE260-5066-4BC2-B986-1BBA781E4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814A7-914C-464A-A456-6DC842241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99B7-4209-4382-946F-AEF2E5BBD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DFFB-84E0-424E-A8E1-4CD35FF54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F77A-A4C5-4302-B3BB-303A88A12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9905-2B92-4550-B04B-5CEE1698E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F74C-8E6C-467D-9979-5FC7AA4C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42FA-ADE2-4901-B51B-1B7C6DF96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69E4-3EE0-4741-8512-66B85363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E2607-F91D-4118-B898-CD04468413C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0D101-831D-4618-97F9-887A9D5B7F1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quiry-Based Instru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luda Trail 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ctober 12, 201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nquiry-based Instruction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ahoma"/>
              </a:rPr>
              <a:t>is a teaching technique in which teachers create situations in which students are to solve problem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nquiry-based Instruction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ahoma"/>
              </a:rPr>
              <a:t>Lessons are designed so that stud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Tahoma"/>
              </a:rPr>
              <a:t>make connections to previous knowledge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Tahoma"/>
              </a:rPr>
              <a:t>bring their own questions to learning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Tahoma"/>
              </a:rPr>
              <a:t>investigate to satisfy their own questions,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Tahoma"/>
              </a:rPr>
              <a:t>design ways to try out their idea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“Scientific Method”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9880" y="1828440"/>
            <a:ext cx="518184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1002600" indent="-5727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Tahoma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sk a Ques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1002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1002600" indent="-5727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Tahoma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o Background Researc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1002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1002600" indent="-5727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Tahoma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nstruct a Hypothesi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1002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1002600" indent="-5727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Tahoma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st Your Hypothesis by Doing an Experime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1002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1002600" indent="-5727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Tahoma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nalyze Your Data and Draw a Conclus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1002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1002600" indent="-5727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Tahoma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mmunicate Your Result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66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04920" y="2666880"/>
            <a:ext cx="367488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5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75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“Scientific Method”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</p:txBody>
      </p:sp>
      <p:pic>
        <p:nvPicPr>
          <p:cNvPr id="110" name="" descr="Overview of the Scientific Method"/>
          <p:cNvPicPr/>
          <p:nvPr/>
        </p:nvPicPr>
        <p:blipFill>
          <a:blip r:embed="rId1"/>
          <a:stretch/>
        </p:blipFill>
        <p:spPr>
          <a:xfrm>
            <a:off x="228600" y="1905120"/>
            <a:ext cx="4648320" cy="44686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800" y="66960"/>
            <a:ext cx="180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029200" y="2895480"/>
            <a:ext cx="3809880" cy="27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the 6 Stages of the Inquiry Cycle?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 (Warner and Myers, 2011)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62520" y="1980720"/>
            <a:ext cx="4952880" cy="36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ahoma"/>
              </a:rPr>
              <a:t>Inquisition- </a:t>
            </a:r>
            <a:r>
              <a:rPr b="0" lang="en-US" sz="3000" spc="-1" strike="noStrike">
                <a:solidFill>
                  <a:srgbClr val="3333cc"/>
                </a:solidFill>
                <a:latin typeface="Tahoma"/>
              </a:rPr>
              <a:t>stating a “What if” or “I wonder” question to be investigated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ahoma"/>
              </a:rPr>
              <a:t>Acquisition- </a:t>
            </a:r>
            <a:r>
              <a:rPr b="0" lang="en-US" sz="3000" spc="-1" strike="noStrike">
                <a:solidFill>
                  <a:srgbClr val="3333cc"/>
                </a:solidFill>
                <a:latin typeface="Tahoma"/>
              </a:rPr>
              <a:t>brainstorming possible procedure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2946240" cy="441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the 6 Stages of the Inquiry Cycle?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 (Continued)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ahoma"/>
              </a:rPr>
              <a:t>Supposition-</a:t>
            </a:r>
            <a:r>
              <a:rPr b="0" lang="en-US" sz="3000" spc="-1" strike="noStrike">
                <a:solidFill>
                  <a:srgbClr val="3333cc"/>
                </a:solidFill>
                <a:latin typeface="Tahoma"/>
              </a:rPr>
              <a:t> identifying an “I think” statement to test 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ahoma"/>
              </a:rPr>
              <a:t>Implementation- </a:t>
            </a:r>
            <a:r>
              <a:rPr b="0" lang="en-US" sz="3000" spc="-1" strike="noStrike">
                <a:solidFill>
                  <a:srgbClr val="3333cc"/>
                </a:solidFill>
                <a:latin typeface="Tahoma"/>
              </a:rPr>
              <a:t>designing and carrying out a plan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257800" y="2209680"/>
            <a:ext cx="3352680" cy="30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the 6 Stages of the Inquiry Cycle?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 (Continued)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9880" y="2017440"/>
            <a:ext cx="518184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ahoma"/>
              </a:rPr>
              <a:t>Summation-</a:t>
            </a:r>
            <a:r>
              <a:rPr b="0" lang="en-US" sz="3000" spc="-1" strike="noStrike">
                <a:solidFill>
                  <a:srgbClr val="3333cc"/>
                </a:solidFill>
                <a:latin typeface="Tahoma"/>
              </a:rPr>
              <a:t> collecting evidence and drawing conclusion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ahoma"/>
              </a:rPr>
              <a:t>Exhibition- </a:t>
            </a:r>
            <a:r>
              <a:rPr b="0" lang="en-US" sz="3000" spc="-1" strike="noStrike">
                <a:solidFill>
                  <a:srgbClr val="3333cc"/>
                </a:solidFill>
                <a:latin typeface="Tahoma"/>
              </a:rPr>
              <a:t>sharing and communicating result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28600" y="224640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507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5-E Model----STE</a:t>
            </a:r>
            <a:r>
              <a:rPr b="0" lang="en-US" sz="4400" spc="-1" strike="noStrike" baseline="30000">
                <a:solidFill>
                  <a:srgbClr val="333399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943280" y="1981080"/>
            <a:ext cx="5067000" cy="45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0T16:15:38Z</dcterms:created>
  <dc:creator>dnorton</dc:creator>
  <dc:description/>
  <dc:language>en-US</dc:language>
  <cp:lastModifiedBy>dnorton</cp:lastModifiedBy>
  <dcterms:modified xsi:type="dcterms:W3CDTF">2011-10-13T13:45:57Z</dcterms:modified>
  <cp:revision>7</cp:revision>
  <dc:subject/>
  <dc:title>Inquiry-Based Instruction</dc:title>
</cp:coreProperties>
</file>